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FA5-D718-41C7-84C9-6A495C3D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D56-E702-46BB-8671-E192C012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C7E-3578-40DB-9DF0-04E88DEA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F3B-B11A-4896-B65E-3D3E2CB7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03F-DA4F-405E-BE65-06D0003D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749-1E98-4A16-B601-453B1D39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FF8-5662-47E9-9F28-D31AA381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DAE-E789-4B31-BD0E-815BBF56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543-8584-42D6-B1DD-AF681611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87B-9A05-44D1-8F3B-3DB01AA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821-EA4C-4E89-ABA3-0B4D95E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555-A0F6-4663-897A-6B8A362C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381C-4395-4E8E-8CED-A2746236A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7000" y="73087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cate de Ex- miembr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9-19T12:59:30Z</dcterms:modified>
  <cp:revision>9</cp:revision>
  <dc:subject/>
  <dc:title>Slide 1</dc:title>
</cp:coreProperties>
</file>