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D04-3C06-43F5-9F60-FA88C5C8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AC2-61A2-4C10-A387-33EF711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BC4-A109-4D06-B50D-7A76B6D0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B11-449F-4CAD-84ED-C0077A56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A63-B67E-47B1-8CCD-B43B11C0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709-D028-44A0-9A51-DEF545FE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814-4DE4-4449-92CA-5A0457C4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3B1-2D22-47F8-ACA3-C70CF338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673-BF54-4A0B-9508-C08677C2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E2F-3DDA-47B9-B97C-B0BC890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ECE-65B2-44E0-8620-756FC44A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343-988B-4EAA-8579-D8DE542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E474-400C-46DC-8351-37C3E584E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paración y Redacción de Informe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4:57Z</dcterms:modified>
  <cp:revision>5</cp:revision>
  <dc:subject/>
  <dc:title>Slide 1</dc:title>
</cp:coreProperties>
</file>